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3133D-3522-4ABE-8A2C-CB00DD0883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06166-138C-4196-BBFB-11D783307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90423-54EB-41F1-9D60-BE83E67F2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AB14A-23E9-4327-AB73-6C36986C1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8912B-2860-4294-B853-0BE7FF59D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4769E-7E33-4487-A5CE-7A71CD6C0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97168-BE14-4C70-A6D4-BB1188ECD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B717B-A869-4F7F-9137-8DC667ED9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0B26-E379-4BFB-BABD-F6791C69D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0AAA-841C-4BA6-B9E5-5B90862E2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FB81-F011-4244-A704-70A664B03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D952-F33D-431C-85C9-D9C49E9E1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CB206-C6EB-46E6-AFEE-DCB257514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BB357-AEDC-4FF2-BE4D-97A5EB7AD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4298B-A9E0-43F9-9027-5E485B764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F39ED-E1B2-4B52-AA78-853C1BDA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75790-23E3-48CC-890B-DCDC9EE46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9096C-C1DA-4515-BFAB-C7B6CC505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DD78A-404A-4649-B680-E2902036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F640-074B-4D03-84A9-7540B67D1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8A9E8-E639-41B6-B777-83FE8442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2FD3A-ABA0-4927-B9E3-983A21AF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7A404-DCB6-4A9D-B740-EF47AC30F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576BB-79D9-4A9C-950A-72A065144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F39B7-B5CE-4465-A67F-DC9B816B1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9BA0-D81B-49B6-B7F2-1FE298E4C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4353-6452-4CC4-9959-2A6C1C2E8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85B2-2F21-46AC-8D07-76BEF2E3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F125-9BC4-4D67-B4AC-39BE8CFD6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D835-D04D-461B-84F6-67723CBD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B74B-054A-4D76-9208-77D268CA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A30C-EA7D-486E-BCC5-B1A67332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79C6D-4C83-4295-8709-5971081BC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026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1027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1028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1029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030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1031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1032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1033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1034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1035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1036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1037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1038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1039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1040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1041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042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043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044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045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046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047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048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049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050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1051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1052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1053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1054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1055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1056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1057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1058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Rectangle 1059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Rectangle 1060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1061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1062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Rectangle 1063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Rectangle 1064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Rectangle 1065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Rectangle 1066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Rectangle 1067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Rectangle 1068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Rectangle 1069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Rectangle 1070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Rectangle 1071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Rectangle 1072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Rectangle 1073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1074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Rectangle 1075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Rectangle 1076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Rectangle 1077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Rectangle 1078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Rectangle 1079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Rectangle 1080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Rectangle 1081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1082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Rectangle 1083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1084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1085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1086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1087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Rectangle 1088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089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Rectangle 1090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6F865-7560-4FB3-ACE0-23F4C6031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79400" y="1447560"/>
            <a:ext cx="767880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What does NYSAFLT 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offer to members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657600" y="2860560"/>
            <a:ext cx="50292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200x200NYSAFLTLogo"/>
          <p:cNvPicPr/>
          <p:nvPr/>
        </p:nvPicPr>
        <p:blipFill>
          <a:blip r:embed="rId1"/>
          <a:stretch/>
        </p:blipFill>
        <p:spPr>
          <a:xfrm>
            <a:off x="1143000" y="2819520"/>
            <a:ext cx="1792440" cy="17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It</a:t>
            </a:r>
            <a:r>
              <a:rPr b="0" lang="ja-JP" sz="4400" spc="-1" strike="noStrike">
                <a:solidFill>
                  <a:srgbClr val="003366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 all @ NYSAFLT.or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oc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deral and State opportunities to advocate for LO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on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-to gu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deo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mo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1"/>
          <a:srcRect l="5625" t="10998" r="6877" b="5608"/>
          <a:stretch/>
        </p:blipFill>
        <p:spPr>
          <a:xfrm>
            <a:off x="-66600" y="457200"/>
            <a:ext cx="9210600" cy="5486400"/>
          </a:xfrm>
          <a:prstGeom prst="rect">
            <a:avLst/>
          </a:prstGeom>
          <a:ln w="9360">
            <a:solidFill>
              <a:srgbClr val="f3f3f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It</a:t>
            </a:r>
            <a:r>
              <a:rPr b="0" lang="ja-JP" sz="4400" spc="-1" strike="noStrike">
                <a:solidFill>
                  <a:srgbClr val="003366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 all @ NYSAFLT.or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fessional support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bin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eign Language Website of the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blication arch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deocast con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ents as Language Partners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stserv archives (Members and Job Placem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It</a:t>
            </a:r>
            <a:r>
              <a:rPr b="0" lang="ja-JP" sz="4400" spc="-1" strike="noStrike">
                <a:solidFill>
                  <a:srgbClr val="003366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 all @ NYSAFLT.or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erence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wards, scholarships, and gr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ormation for administ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dcasting/Videocasting via iTu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rchand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b placement as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much, much, more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3" descr=""/>
          <p:cNvPicPr/>
          <p:nvPr/>
        </p:nvPicPr>
        <p:blipFill>
          <a:blip r:embed="rId1"/>
          <a:srcRect l="22503" t="16001" r="23752" b="12000"/>
          <a:stretch/>
        </p:blipFill>
        <p:spPr>
          <a:xfrm>
            <a:off x="990720" y="380880"/>
            <a:ext cx="7315200" cy="61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Membership - Best deal around!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3166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55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Re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35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ssociate (part-time or unemploy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25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Reti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15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Full-time Stu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3" descr="NYSAFLT_PATCH.jpg"/>
          <p:cNvPicPr/>
          <p:nvPr/>
        </p:nvPicPr>
        <p:blipFill>
          <a:blip r:embed="rId1"/>
          <a:stretch/>
        </p:blipFill>
        <p:spPr>
          <a:xfrm>
            <a:off x="6095880" y="3913200"/>
            <a:ext cx="2975040" cy="39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9:41:44Z</dcterms:created>
  <dc:creator>Kenneth Hughes</dc:creator>
  <dc:description/>
  <dc:language>en-US</dc:language>
  <cp:lastModifiedBy>Jenine Nowakowski</cp:lastModifiedBy>
  <dcterms:modified xsi:type="dcterms:W3CDTF">2015-12-31T04:13:40Z</dcterms:modified>
  <cp:revision>40</cp:revision>
  <dc:subject/>
  <dc:title>NYSAFLT/NYCAFLT/UFT Annual Conference 2011</dc:title>
</cp:coreProperties>
</file>